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515-F57A-4283-A37E-C548DF7A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560-D367-4196-8B43-4573080B4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9907-0447-4CE9-AF43-539ED4DD0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18C5-E849-4894-B3EB-9798A19BA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14C1-85EA-4E9F-B1F0-D84A80798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DC4B-99DE-4B37-9F01-3864B3159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217-E570-40CB-95F6-317B59B919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5B7-3413-4EDD-86FB-E98DB40865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313-9FEC-4ECB-BE83-1D75B54A7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6EE7-9A1E-43FB-BE1D-9922F4646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B4A-F23A-4892-BCC8-58A39B3AC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A1E-4BA2-4BEA-80BC-34DF67FD5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698-7436-4162-8D13-C22758149E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451-D1AC-4A39-A381-C87D3C38D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F7B-6AD2-4DF5-B4BF-4A9CDCAEB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1BF2-A834-45DA-88A4-4BB26151C6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551E-8111-4F75-92E5-4049A443D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F1C-BAB7-4205-93A7-BBCF4B0C22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241-E743-4A6F-95CD-B105793D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4EE-0EC0-48F9-B212-460FF97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2F6-E411-4286-9DC5-BA3AB725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B88-5ECE-4989-8CA3-6F484274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00BC-E774-4214-8B89-A7F7861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1568-3B66-4C64-B02C-E08D34A1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FEB-A8D5-489F-8975-BE5E2F8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F301-87F2-4308-98BD-AA4960F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9D84-5A29-474D-8878-36C1933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78A1-2CBC-4EEB-9339-E7A9694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C8D-E1F8-431B-9A46-9544FE1E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13F-35F0-43B9-925B-004D73F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D31A-1186-47AD-A4EB-6CFB3B7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3250-D302-4961-9E32-9334127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F48-BF09-4283-9B16-2B51393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37B-CA0A-4B5A-9709-75EDBD6A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05F9-EAF7-4395-8347-86B9048E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932D-144E-463A-867D-36BF192D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5368-6C4C-4798-A498-05B144AE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D6BA-3D30-4DF0-B0CB-0B0FC22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EBD7-77C3-439E-82D3-0A8064C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E802-9727-4903-9930-E3F31BBC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82F-8605-41D8-A0D2-E54A933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EFE9-3C34-4C40-9772-29F2F89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F9F8-3228-4DF0-AF21-0C83AB1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6671-F985-463F-983C-65B27253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5CD1-51B0-4AFF-A8C7-0949A47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358C-1D24-4A04-AB37-13242F5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FB4B-6922-4924-82C3-74A05376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53A7-A678-41F8-9F45-A03D2AD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4848-E451-44CE-AC87-1D76BD65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8E89-CD0B-4621-B082-381F86F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8AB0-BD9C-4130-A4AD-C3BC41D9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783-7010-47CF-A925-437ECA86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335E-50E1-4AF9-8D61-00726DE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47B3-B2DC-4271-B75F-A5E7ADC4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8DA0-3E5B-4931-9F2E-2FD78056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7B6B-86ED-4D5C-A0F4-F1DDD71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2F08-6763-464C-B622-5FC6577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A401-0C11-409F-811E-C644142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2DB2-F5B4-4E8B-AD76-5BD6C47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FE0E-F447-4787-B12B-D1792505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9E84-3684-47AE-BC43-935896D9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23F6-F07D-4F5D-9C50-B9B73BDC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11B-327E-407F-928A-F3CA3A2D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9859-DECF-41C7-B24E-C4AB060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4153-2A54-4602-A1B9-952F4B09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6BF5-4AFA-4EB6-B766-5CB7A5B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1A42-E628-40F4-B504-8B942DD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FDE9C-E70D-4CEF-AD6B-C0223F0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68E5-A415-4F51-A7B0-A445214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429DE-F2DD-460D-8889-0F658D02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943D-9226-4224-9D3E-8C86322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5C1E-B455-4512-A0F6-7F86B66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AB13-9D32-4295-BCAB-7F537694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818-1E43-44B7-A378-F207D90B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8243-E939-47DD-8096-10750F9A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0275-DD07-428B-B4C6-84F7A41A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94C1-4B9B-4975-A6EA-1B302250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3C67-A5E9-4054-8C26-FE729824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784E-2145-4213-9278-33EA7C8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A1100-C601-4C29-B942-EE3101C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B6C2-7B21-4186-95BD-A0B5625F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CC05-5445-410D-A4FC-ED3F491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0BCC-F744-4CCE-B366-A423B3F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C43C-A0D5-493A-A151-DA54680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D30-F9F8-4739-A1C4-C942E921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0E40-F36F-4C73-AF8F-12B722A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39F3-418A-4A24-95B9-E4D2E563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FF5D-1151-48EF-8EE4-83B82C4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034-7082-498A-B4E9-E11B8F6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15E-FE6F-45CA-8606-9A30F1F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C6C-8CE5-4914-AFEC-BB7DB88D3FFD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2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Straight Connector 13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Straight Connector 15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1CF-96B3-4256-8459-8ACB5CE78402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FE76-660B-418D-AD08-0FABE740FB41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370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4D5E-65E2-43B9-81EE-C8BE1852345D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92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2F3-9E51-4293-AA54-DF13FDF76AAF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3d"/>
            </a:gs>
            <a:gs pos="100000">
              <a:srgbClr val="d14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239" name="Straight Connector 7"/>
            <p:cNvSpPr/>
            <p:nvPr/>
          </p:nvSpPr>
          <p:spPr>
            <a:xfrm flipH="1">
              <a:off x="11275920" y="2963880"/>
              <a:ext cx="91260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Straight Connector 9"/>
            <p:cNvSpPr/>
            <p:nvPr/>
          </p:nvSpPr>
          <p:spPr>
            <a:xfrm flipH="1">
              <a:off x="10292400" y="3285360"/>
              <a:ext cx="1896480" cy="18961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traight Connector 10"/>
            <p:cNvSpPr/>
            <p:nvPr/>
          </p:nvSpPr>
          <p:spPr>
            <a:xfrm flipH="1">
              <a:off x="10442880" y="3131280"/>
              <a:ext cx="1745640" cy="174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traight Connector 11"/>
            <p:cNvSpPr/>
            <p:nvPr/>
          </p:nvSpPr>
          <p:spPr>
            <a:xfrm flipH="1">
              <a:off x="10918800" y="3683160"/>
              <a:ext cx="1269720" cy="1269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4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5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lvl="6" marL="21146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68370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1E6-7626-40F3-9D6A-E6D6A44B90F9}" type="slidenum"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780920" y="2416320"/>
            <a:ext cx="371628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100" spc="-1" strike="noStrike">
                <a:solidFill>
                  <a:srgbClr val="0f496f"/>
                </a:solidFill>
                <a:latin typeface="Century Gothic"/>
              </a:rPr>
              <a:t>With</a:t>
            </a:r>
            <a:endParaRPr b="0" lang="en-US" sz="2100" spc="-1" strike="noStrike">
              <a:solidFill>
                <a:srgbClr val="68370f"/>
              </a:solidFill>
              <a:latin typeface="Century Gothic"/>
            </a:endParaRPr>
          </a:p>
          <a:p>
            <a:pPr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100" spc="-1" strike="noStrike">
                <a:solidFill>
                  <a:srgbClr val="0f496f"/>
                </a:solidFill>
                <a:latin typeface="Century Gothic"/>
              </a:rPr>
              <a:t>Paul Tilley</a:t>
            </a:r>
            <a:endParaRPr b="0" lang="en-US" sz="2100" spc="-1" strike="noStrike">
              <a:solidFill>
                <a:srgbClr val="68370f"/>
              </a:solidFill>
              <a:latin typeface="Century Gothic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8763120" y="914400"/>
            <a:ext cx="1584360" cy="10666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1814400" y="4232160"/>
            <a:ext cx="48006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f496f"/>
                </a:solidFill>
                <a:latin typeface="Century Gothic"/>
              </a:rPr>
              <a:t>Unit 4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f496f"/>
                </a:solidFill>
                <a:latin typeface="Century Gothic"/>
              </a:rPr>
              <a:t>Secondary Research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781280" y="650880"/>
            <a:ext cx="57718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840" rIns="51840" tIns="25920" bIns="25920" anchor="ctr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R230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RKETING RESEA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YBR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105800" y="182520"/>
            <a:ext cx="317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ng Secondary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4502160" y="76824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help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ques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ut 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defini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502160" y="244476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ime period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4578480" y="4197240"/>
            <a:ext cx="273024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pulation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5867280" y="2063880"/>
            <a:ext cx="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5867280" y="38163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5943600" y="5491080"/>
            <a:ext cx="0" cy="45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3505320" y="768240"/>
            <a:ext cx="0" cy="517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3511440" y="762120"/>
            <a:ext cx="67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96380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02160" y="92088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other ter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ari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fic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appl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02160" y="259704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 unit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02160" y="4273560"/>
            <a:ext cx="27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ossible, go to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 sourc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5867280" y="2216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5943600" y="3892680"/>
            <a:ext cx="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7"/>
          <p:cNvSpPr/>
          <p:nvPr/>
        </p:nvSpPr>
        <p:spPr>
          <a:xfrm>
            <a:off x="5943600" y="5645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048200" y="380880"/>
            <a:ext cx="448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ng Secondary Data (continu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3581280" y="920880"/>
            <a:ext cx="0" cy="311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3587760" y="426708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581280" y="92088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581280" y="84456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204012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3581280" y="4273560"/>
            <a:ext cx="0" cy="159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3587760" y="403848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2269440" y="485316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211640" y="75888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cost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worth i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6324480" y="221616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4191120" y="844560"/>
            <a:ext cx="0" cy="525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09680" y="2643120"/>
            <a:ext cx="178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211640" y="267336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 pos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bia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211640" y="4502160"/>
            <a:ext cx="3630600" cy="1282680"/>
          </a:xfrm>
          <a:prstGeom prst="rect">
            <a:avLst/>
          </a:prstGeom>
          <a:solidFill>
            <a:srgbClr val="7606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he accuracy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llection b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6324480" y="396864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3948120" y="6095880"/>
            <a:ext cx="10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4191120" y="920880"/>
            <a:ext cx="0" cy="14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4191120" y="84456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1705680" y="1631880"/>
            <a:ext cx="10071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act Find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Identifying consumptio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Tracking tre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- Environmental Sc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798200" y="3035160"/>
            <a:ext cx="97786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odel build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Estimating market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Forecasting 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Analysis of trade areas and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CA" sz="2800" spc="-1" strike="noStrike">
                <a:solidFill>
                  <a:srgbClr val="ffffff"/>
                </a:solidFill>
                <a:latin typeface="Century Gothic"/>
              </a:rPr>
              <a:t>- Advertising Respons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644840" y="4853160"/>
            <a:ext cx="9777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ta  Mining/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 Development of Prospect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taBase Marketing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-  Enhancement of Customer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939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N RESEARCH OBJECTIV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SECONDARY DATA STUDI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FACT FIND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174400" y="915840"/>
            <a:ext cx="742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dentify consumer behavior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Trend analysi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Environmental scanning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rcRect l="68109" t="35812" r="1892" b="13905"/>
          <a:stretch/>
        </p:blipFill>
        <p:spPr>
          <a:xfrm>
            <a:off x="1676520" y="129528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1371240" y="5587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fy consumer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7640640" cy="43434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2127600" y="76212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rend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VIRONMENTAL SCANN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2171880" y="1576440"/>
            <a:ext cx="7696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558720"/>
            <a:ext cx="65548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ODEL BUILD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828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Market potential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Forecasting sale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Analysis of trade area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  <p:pic>
        <p:nvPicPr>
          <p:cNvPr id="381" name="Object 4" descr=""/>
          <p:cNvPicPr/>
          <p:nvPr/>
        </p:nvPicPr>
        <p:blipFill>
          <a:blip r:embed="rId1"/>
          <a:stretch/>
        </p:blipFill>
        <p:spPr>
          <a:xfrm>
            <a:off x="6321600" y="1981080"/>
            <a:ext cx="35622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2133720" y="4158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Estimating Marke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For Hybrid 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rcRect l="68109" t="35524" r="1080" b="26381"/>
          <a:stretch/>
        </p:blipFill>
        <p:spPr>
          <a:xfrm>
            <a:off x="2209680" y="1246320"/>
            <a:ext cx="5867640" cy="2573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3819600" cy="2170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7"/>
          <p:cNvSpPr/>
          <p:nvPr/>
        </p:nvSpPr>
        <p:spPr>
          <a:xfrm>
            <a:off x="6324480" y="43434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If 2.5% of carsales are hybrids, and if NL  care sales in 2013 was 35,439 units – then we estimate that we estimate around 900 hybrids were sold in NL in 20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2362320" y="1714680"/>
            <a:ext cx="5848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34560" bIns="34560" anchor="ctr">
            <a:normAutofit fontScale="97000"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Unit 4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Century Gothic"/>
              </a:rPr>
              <a:t>Secondary Researc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2209680" y="685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Forecasting 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2286000" y="4343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rcRect l="1622" t="26381" r="79459" b="36287"/>
          <a:stretch/>
        </p:blipFill>
        <p:spPr>
          <a:xfrm>
            <a:off x="2514600" y="1530360"/>
            <a:ext cx="6908760" cy="4835520"/>
          </a:xfrm>
          <a:prstGeom prst="rect">
            <a:avLst/>
          </a:prstGeom>
          <a:ln w="0">
            <a:noFill/>
          </a:ln>
        </p:spPr>
      </p:pic>
      <p:pic>
        <p:nvPicPr>
          <p:cNvPr id="389" name="Straight Connector 3" descr=""/>
          <p:cNvPicPr/>
          <p:nvPr/>
        </p:nvPicPr>
        <p:blipFill>
          <a:blip r:embed="rId2"/>
          <a:stretch/>
        </p:blipFill>
        <p:spPr>
          <a:xfrm>
            <a:off x="7723080" y="3492360"/>
            <a:ext cx="1024200" cy="1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4"/>
          <p:cNvSpPr/>
          <p:nvPr/>
        </p:nvSpPr>
        <p:spPr>
          <a:xfrm>
            <a:off x="2209680" y="685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nalysis of Trad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Vehicle Sales in 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2286000" y="434340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rcRect l="60540" t="44667" r="17567" b="24859"/>
          <a:stretch/>
        </p:blipFill>
        <p:spPr>
          <a:xfrm>
            <a:off x="6934320" y="138240"/>
            <a:ext cx="3352680" cy="192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209680" y="2417760"/>
          <a:ext cx="8077320" cy="35766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403848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060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nual per capita car s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cal Mkt Potenti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 *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$5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quare Feet of Car Selling Sp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ex of retail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P*A)/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 – low opportunity for grow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c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57400" y="536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DATA MINING/DATA BASED MARKET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076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Computer/Interned analysis of metadata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ractice of maintaining a customer data base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Nam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Address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ast purchas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Responses to past effort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Data from numerous sourc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NTERNAL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51200" y="9522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Monotype Sorts" charset="2"/>
              <a:buChar char="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ternal and proprietary data is more descriptiv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09680" y="27810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Accounting information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Sales information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Backorders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68370f"/>
                </a:solidFill>
                <a:latin typeface="Century Gothic"/>
              </a:rPr>
              <a:t>Customer complaints</a:t>
            </a:r>
            <a:endParaRPr b="0" lang="en-US" sz="2600" spc="-1" strike="noStrike">
              <a:solidFill>
                <a:srgbClr val="68370f"/>
              </a:solidFill>
              <a:latin typeface="Century Gothic"/>
            </a:endParaRPr>
          </a:p>
        </p:txBody>
      </p:sp>
      <p:graphicFrame>
        <p:nvGraphicFramePr>
          <p:cNvPr id="399" name="Object 5"/>
          <p:cNvGraphicFramePr/>
          <p:nvPr/>
        </p:nvGraphicFramePr>
        <p:xfrm>
          <a:off x="7543800" y="2590920"/>
          <a:ext cx="2184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590920"/>
                    <a:ext cx="2184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17800" y="2988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ERNAL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017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Librarie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he Interne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Vendor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Producer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Books and periodicalsGovernment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rade association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Newspapers and journal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2017800" y="947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, recorded, or generated by an entity other than the researcher’s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54080" y="2282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GLOBAL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9540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Typical limitation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Additional pitfalls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Unavailable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Questionable accuracy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8370f"/>
                </a:solidFill>
                <a:latin typeface="Century Gothic"/>
              </a:rPr>
              <a:t>Lack of standardized terminology</a:t>
            </a:r>
            <a:endParaRPr b="0" lang="en-US" sz="2000" spc="-1" strike="noStrike">
              <a:solidFill>
                <a:srgbClr val="68370f"/>
              </a:solidFill>
              <a:latin typeface="Century Gothic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6172200" y="4114800"/>
          <a:ext cx="4216320" cy="20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114800"/>
                    <a:ext cx="421632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tent Placeholder 2"/>
          <p:cNvSpPr/>
          <p:nvPr/>
        </p:nvSpPr>
        <p:spPr>
          <a:xfrm>
            <a:off x="1219320" y="22320"/>
            <a:ext cx="70293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CA" sz="1500" spc="-1" strike="noStrike">
                <a:solidFill>
                  <a:srgbClr val="ffffff"/>
                </a:solidFill>
                <a:latin typeface="Century Gothic"/>
              </a:rPr>
              <a:t>In this video we will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152160" y="812880"/>
            <a:ext cx="597960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tages of the Research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971800" y="1720800"/>
            <a:ext cx="2749680" cy="121140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616200" y="2141640"/>
            <a:ext cx="1517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1.Problem Discover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Defini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entury Gothic"/>
              </a:rPr>
              <a:t>Exploratory Re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ff"/>
                </a:solidFill>
                <a:latin typeface="Century Gothic"/>
              </a:rPr>
              <a:t>Secondary Data Re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5"/>
          <p:cNvSpPr/>
          <p:nvPr/>
        </p:nvSpPr>
        <p:spPr>
          <a:xfrm flipH="1">
            <a:off x="5278320" y="3075120"/>
            <a:ext cx="128880" cy="261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181320" y="3174840"/>
            <a:ext cx="2054160" cy="655920"/>
          </a:xfrm>
          <a:prstGeom prst="rect">
            <a:avLst/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675240" y="3311640"/>
            <a:ext cx="1039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2. Researc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De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4917960" y="4202280"/>
            <a:ext cx="41400" cy="34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81320" y="4157640"/>
            <a:ext cx="2089080" cy="60948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713040" y="4324320"/>
            <a:ext cx="10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3. Sampl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433840" y="4543560"/>
            <a:ext cx="1822680" cy="6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5721480" y="4651200"/>
            <a:ext cx="10396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06f1e"/>
                </a:solidFill>
                <a:latin typeface="Century Gothic"/>
              </a:rPr>
              <a:t>4. D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06f1e"/>
                </a:solidFill>
                <a:latin typeface="Century Gothic"/>
              </a:rPr>
              <a:t>Gather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 flipV="1">
            <a:off x="7418520" y="4235400"/>
            <a:ext cx="257040" cy="34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6996240" y="3489480"/>
            <a:ext cx="1842840" cy="58392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7426440" y="3619440"/>
            <a:ext cx="1039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5. Data Process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Analys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6891480" y="2371680"/>
            <a:ext cx="2052360" cy="6224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746760" y="2427120"/>
            <a:ext cx="234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6. Conclusions a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Report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20"/>
          <p:cNvSpPr/>
          <p:nvPr/>
        </p:nvSpPr>
        <p:spPr>
          <a:xfrm flipH="1" flipV="1">
            <a:off x="7426440" y="3036600"/>
            <a:ext cx="172800" cy="299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5952240" y="2001960"/>
            <a:ext cx="1020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840" rIns="5184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and so 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4959360" y="4811760"/>
            <a:ext cx="44784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4467240" y="3897360"/>
            <a:ext cx="144360" cy="245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 flipH="1">
            <a:off x="5927760" y="2386080"/>
            <a:ext cx="106848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6783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905120" y="14479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ary data is data that has been gathered and recorded by someone else prior to and for a purpose other than the current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oft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isto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ready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eds no access to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81160" y="5331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DVANTAGES OF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046240" y="1302840"/>
            <a:ext cx="7824960" cy="376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Available (Google)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expensive 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Obtained Rapidly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formation is not Otherwise Accessibl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4457880" y="6068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06f1e"/>
                </a:solidFill>
                <a:latin typeface="Times New Roman"/>
              </a:rPr>
              <a:t>http://www.statcan.gc.ca/dai-quo/index-eng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GOVERNMENT DATA IS OFTEN FRE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1836720" y="160020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s Canada Labour Force Survey, June 2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rcRect l="68380" t="39336" r="11893" b="25622"/>
          <a:stretch/>
        </p:blipFill>
        <p:spPr>
          <a:xfrm>
            <a:off x="1828800" y="2146320"/>
            <a:ext cx="8686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8840" y="5331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DISADVANTAGES OF SECONDARY DA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058840" y="2362320"/>
            <a:ext cx="93837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Not tailored to a particular research question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Uncertain Accuracy (Reputable source?)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Reliability may be questionabl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May not be valid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68370f"/>
                </a:solidFill>
                <a:latin typeface="Century Gothic"/>
              </a:rPr>
              <a:t>Consider its age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Data Not Consistent with Needs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  <a:p>
            <a:pPr marL="262800" indent="-2628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8370f"/>
                </a:solidFill>
                <a:latin typeface="Century Gothic"/>
              </a:rPr>
              <a:t>Inappropriate Units of Measurement</a:t>
            </a:r>
            <a:endParaRPr b="0" lang="en-US" sz="2800" spc="-1" strike="noStrike">
              <a:solidFill>
                <a:srgbClr val="68370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entury Gothic"/>
              </a:rPr>
              <a:t>SECONDARY DATA MAY BE DATED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924280" y="19875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8370f"/>
                </a:solidFill>
                <a:latin typeface="Century Gothic"/>
              </a:rPr>
              <a:t>Statistics Canada Canadian Census the Canadian Census every 5 years, from the national to the local level.</a:t>
            </a:r>
            <a:endParaRPr b="0" lang="en-US" sz="3200" spc="-1" strike="noStrike">
              <a:solidFill>
                <a:srgbClr val="68370f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8370f"/>
              </a:solidFill>
              <a:latin typeface="Century Gothic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519444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12.statcan.gc.ca/census-recensement/2011/dp-pd/index-eng.c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9:38:13Z</dcterms:created>
  <dc:creator>Tobin Zkmund</dc:creator>
  <dc:description/>
  <dc:language>en-US</dc:language>
  <cp:lastModifiedBy>Tilley, Paul (C'ville)</cp:lastModifiedBy>
  <cp:lastPrinted>2014-10-01T13:28:24Z</cp:lastPrinted>
  <dcterms:modified xsi:type="dcterms:W3CDTF">2014-10-01T13:30:31Z</dcterms:modified>
  <cp:revision>22</cp:revision>
  <dc:subject/>
  <dc:title>Chapter 7 -  Exploring Marketing Research</dc:title>
</cp:coreProperties>
</file>